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EB8-3FAD-4AA8-B9C0-F7EB9CDB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F02-BE8B-4FD9-A395-6A265DA6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886-D9AF-4112-B1B5-DBA0C1F2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3C4-4181-45A0-9F03-7A139CCE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8245-B15E-4A06-A519-D858CEA6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9332-91EA-4778-BF52-775EEFDD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FAE3-9662-4059-A806-2D662883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84D6-0BE3-42FE-BEA2-EDD92F8D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B19B-D932-4DA9-99CD-1D3911E0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4CB8-7F4D-44AA-9FF8-1177A1C8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FC6B-7CE6-4EBD-8FCE-B01F1821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0E1-8015-4C4F-BAE8-E054E141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A4B2-7A15-45EC-A712-C12881A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B694-EA1D-40B4-8F81-B79CE392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5802-A3A2-4E2E-AB0D-374DB2FD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7268-67B9-4402-9600-178EC5C2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59B-0CE4-473D-B8A9-40ECB5FD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0E6-C761-4560-BBC6-EF3DF20A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B7F-379A-4C94-A3AD-90631AB5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90D-E81E-4ABD-9D5C-532CF9BA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3EE-E036-4492-B30C-F2C7532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DCD-C69C-42F8-AF19-7BF0D7E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5CB-D1DC-40E4-8DB4-F6B8CBB1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6C1-B10A-4F19-AA6B-003DA2D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75B1-1E24-4D25-B1AC-0B8FABAE54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295-8B6E-4E26-A8CE-19C80C8D84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 llamo __________           Clase 701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 fecha es el 23 de febrero del 2016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4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20443"/>
                </a:solidFill>
                <a:latin typeface="Arial"/>
              </a:rPr>
              <a:t>Propósito # 49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e hora empiezas las cl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20443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la forma correcta del verb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 -&gt; ie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gadores/empezar a j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equipos/ querer ga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/preferir marcar muchos ta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chez/querer meter un g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ortero/querer parar el b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quipo de Sanchez/no pe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5580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upos de 3 o 4 alumnos, Copia y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mpiezan ustedes a jugar a las 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ganar el part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ieren ustedes marcar un ta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ierden ustedes a veces o ganan siemp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refieren ustedes jugar en el parque o en la ca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e20443"/>
                </a:solidFill>
                <a:latin typeface="Arial"/>
              </a:rPr>
              <a:t>Ejerc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1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1580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49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tent Placeholder 1"/>
          <p:cNvSpPr/>
          <p:nvPr/>
        </p:nvSpPr>
        <p:spPr>
          <a:xfrm>
            <a:off x="380880" y="3962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39120" indent="-1702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a p. 5.9-5.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Quiz 2: Capitulo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Quiz 1: Capitulo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UBRIC: piramide de ali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27:39Z</dcterms:created>
  <dc:creator>Helen Zumaeta</dc:creator>
  <dc:description/>
  <dc:language>en-US</dc:language>
  <cp:lastModifiedBy>Helen Zumaeta</cp:lastModifiedBy>
  <cp:lastPrinted>2016-02-23T16:00:41Z</cp:lastPrinted>
  <dcterms:modified xsi:type="dcterms:W3CDTF">2016-02-23T19:01:49Z</dcterms:modified>
  <cp:revision>19</cp:revision>
  <dc:subject/>
  <dc:title>Me llamo __________    Clase 7 IM La fecha es el 2 de diciembre del 2010</dc:title>
</cp:coreProperties>
</file>